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notesMasterIdLst>
    <p:notesMasterId r:id="rId33"/>
  </p:notes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</p:sldIdLst>
  <p:sldSz cx="9907588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notesMaster" Target="notesMasters/notesMaster1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 type="dt" idx="94"/>
          </p:nvPr>
        </p:nvSpPr>
        <p:spPr>
          <a:xfrm>
            <a:off x="388440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 type="sldImg"/>
          </p:nvPr>
        </p:nvSpPr>
        <p:spPr>
          <a:xfrm>
            <a:off x="1003320" y="1243080"/>
            <a:ext cx="4851360" cy="3357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800" rIns="9180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 type="body"/>
          </p:nvPr>
        </p:nvSpPr>
        <p:spPr>
          <a:xfrm>
            <a:off x="685800" y="4786200"/>
            <a:ext cx="5486400" cy="39182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5"/>
          <p:cNvSpPr>
            <a:spLocks noGrp="1"/>
          </p:cNvSpPr>
          <p:nvPr>
            <p:ph type="ftr" idx="95"/>
          </p:nvPr>
        </p:nvSpPr>
        <p:spPr>
          <a:xfrm>
            <a:off x="-360" y="94467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3" name="PlaceHolder 6"/>
          <p:cNvSpPr>
            <a:spLocks noGrp="1"/>
          </p:cNvSpPr>
          <p:nvPr>
            <p:ph type="sldNum" idx="96"/>
          </p:nvPr>
        </p:nvSpPr>
        <p:spPr>
          <a:xfrm>
            <a:off x="3884400" y="94467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EF99-71EA-41E6-9B45-6F3F224E0E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003320" y="1243080"/>
            <a:ext cx="4851360" cy="335736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786200"/>
            <a:ext cx="5486400" cy="39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Номер слайда 3"/>
          <p:cNvSpPr/>
          <p:nvPr/>
        </p:nvSpPr>
        <p:spPr>
          <a:xfrm>
            <a:off x="3884760" y="944712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3DEC-1DB0-4927-B6DB-A946382430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7B2B-D044-4A65-8C42-BD9DB830D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875A-37AC-4D1D-87F4-A4FCB14E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FA3BFB-99BD-4C2E-8312-568B54E4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78E419-8C20-4A50-BB60-9511E915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99ED43-BA15-49C5-8AF3-A6DE78BF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5C4AE3-018E-4E1F-991B-DD969F01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29AFC-F425-4EAB-8C9E-3294F5B2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9CB096-5B41-4B55-87B0-9ADA1298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20E8E4-6E51-4D72-A35D-4DFCC907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3558AB-B01C-4573-9831-A6D8BA7D2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276C5C-FEFF-4FC4-90EA-FB543741B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AC631B-3AE0-4F8A-A7F3-9D73C856B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674B-DB07-46EF-B30D-6C535AB61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D5846F-1D6A-4C9F-B259-3DB99B48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7A38DA-63FF-4FC6-933C-159CE5AD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7C0B87-8C75-4934-9453-EEC103BD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8A2574-B2AF-467A-BA39-EB8046C9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D96101-8818-4886-9E1F-E900D9B6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D11C47-33C3-4E5B-8D63-88C7EE5A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837F58-9AEE-4F4A-B9DE-A1C5C5AF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2ECB37-2BD9-43F1-8CEC-64721CC1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DDE696-0FA1-4826-9F36-A1692DCD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E58F50-714E-4971-865F-611D83A4D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C9E4-4497-419C-B66F-02DA115C5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E321A0-1957-4A3B-8CA9-F815D254D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E59061-89BD-4303-A72F-030F0FE94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45C335-BF43-4795-909D-04E3FC70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9600D-2FD9-481B-8F1E-5AB02D36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5C301-2879-4B8E-AC87-3A4A27A8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ACDC08-582E-4BCA-9A47-6EB09A28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E38F9B-B4B3-40FE-9F70-575F0AC9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A76B4-4837-4B95-A432-BD69F01D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5A623-82CB-4D0B-AA38-3B9FC9F0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5A44C-B376-4B20-91CB-0D743841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495E-FF25-45A0-9F7E-CEEE460D4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655982-FD5D-4C48-A34B-F3FEBEB7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46792-CBC1-4341-9055-8F4C36338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A15F35-1224-4EE1-B9FC-7643E934E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306667-D0B8-4C2A-90C7-F0DE76360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D2BEC3-6C48-46B8-8F58-B6D8EE4A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E1F9B7-5623-4BE9-90DD-8BB6BBA9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783A05-C435-4C28-A3E8-A4468D71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4316E5-2CBB-46E6-9352-1204A9DF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FB3CE2-A343-42E6-BD41-B4761DF3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09E88C-B4C1-4D15-91F4-89A25ADD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C6C7-8F0D-4DF8-8119-134B949D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BCBED1-6B33-45C2-B14B-87B430BF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ADC74F-B24C-4B45-9A5B-44419B31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98A1C8-FBAD-416F-8566-C3F6E01A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86458B-9E4B-4A59-BD7B-2D7CCA623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506D42-DD77-4A6C-9491-D20B537F1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2E577D-D62A-43D0-8C64-4248D0D05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8EA23D-5659-4D2F-AAC7-93C81F82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1EF163-B324-4C9D-AAB3-4D8175E5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993B9F-6BCC-4A47-90D8-91306C09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F486F5-F5C7-49F4-8937-509D95F2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96FD-EDDC-43E2-A698-C56A9ED2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5400F0-4C55-4798-8D01-28B0AEF9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7D2F63-3EE1-44B4-B643-35DB152B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4A6F17-3CB6-44E1-8658-690FEB9A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786830-097E-4A40-8449-2F74AE0A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B538E2-5F7C-4F61-9326-03FEAAF8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C16BDE-93E0-464E-9C01-070FD5C5D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9778AE-C447-426D-BF49-DB3A462E5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491687-3CD6-4649-A17F-6EEFA4EAE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5F4202-14A2-4108-AC25-08309DAA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C7AC55-D84B-4345-88A6-7164BAA6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0408-F5ED-4DA9-AFB9-7A98912C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5743FA-84DD-4B72-8711-015B0E8F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DD8475-5FC2-4D18-8146-843F24F1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F7A05E-5AD3-4548-B2CE-A6B55CBB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CCD8D2-1AFE-40FE-9166-A3BCD762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B389BB-BFB9-4961-8348-F167719D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7E2DE0-5771-4139-A241-1160B729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723E6A-15F4-40B2-A8E1-CE16CEBE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A545DD-04CB-40DE-9C0E-3B41BE604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7CEDFC-85CE-4D10-8135-66A1C726F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C6EC11-19AC-46A4-9040-35C1B9CB7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F7CC-9261-4824-8928-36397262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135D7E-642A-4F0D-989E-021501A4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D050BD-FB26-4B4C-ACF4-AB747DBB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D20F3A-9344-452C-B0EB-C425CABB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BC69E3-10D6-41EF-9C0F-AD0A5F54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120923-DDF3-4D6C-9AFD-C121D5A3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BC0413-F5B3-4459-ABC2-3325560C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A58379-1C0B-4F87-9D9F-EF892F9C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7D3EAF-C115-4F52-BF86-4146BFE5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F3BDF0-9211-4858-AB8B-0EBD0F3C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738E72-58AD-434E-A945-7D525275B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FC24-D83C-493D-B96E-D2B2482C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AFDF41-7ACF-46E3-B903-FFD498490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2D4D23-EE88-4E79-8F0F-9886BC8A6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804EB1-006E-4195-A22F-BD712444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669291-B6D8-4E74-AFC5-5EB4A77F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611099-3C9B-47EF-BDE8-F0DEC195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60F161-B42D-415A-A6FF-858465A6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0AF5A2-5B92-44DA-9279-B8E5BFB1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4BCF87-E340-45F2-9333-A7D62EC9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F0399B-92AA-4DDB-A72A-17988F09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D32AC2-1ADA-4B36-A031-B3EE128C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1CC4F-5609-4026-BAB5-C19E2F73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93DA78-B1BB-4FFC-9E27-339E4D20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CFD090-9402-4FCF-841C-D61714B88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E74695-C992-4E43-859B-E5004ADE0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A9387C-9809-4B9E-B232-8F1587C9F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959C48-AF83-4747-969E-7D72BAA5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AA26DC-B114-4AA6-93A9-F7A46845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F01647-71D3-41D6-A9C1-383E6526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33C5E3-0EA3-4B4D-B562-77C285AB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9CCF95-EB0C-4900-8A62-46A3783B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F18BA5-F200-4145-9D4A-0CA7B436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BF10-44B2-4A01-9A6E-D8DD7251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AD531-4CE5-44FB-91D4-FA6AC363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4508F2-F18A-4835-A457-2798C423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1F0D61-B6A7-48C8-8AF4-A176F1AE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D6B126-2DCA-4382-983F-93F82D34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78182A-7B66-4AAD-9C02-3D1E5E425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E6BF8A-62F6-4662-8117-5E4176DCC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B3D0E7-F4C5-428E-BB48-BDFFBAE86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8CE940-0473-4848-8A82-BBB183A5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865BE0-1B48-42E5-BF77-A2E2E063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444BC4-3D1A-4306-A789-91D854B5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C70AAB-956F-43F6-81B8-53508471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2D6E-9BDC-41AB-BC9B-4DAC6928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9830A3-BD9B-4E7C-8C13-981010CC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1722A0-FC48-4E26-AAFD-B106D2EF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9AAB9F-CC5F-4BDA-A136-937CA8EC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3F2339-FF36-406E-9B6F-AC974AF8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DB086D-BF34-49EA-A7E7-C4D10B8C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6DBEA4-50F8-4837-BC58-884B118EF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79ED42-F13B-4087-AB57-1AD1EA972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759275-90BA-4E3A-8828-5C044D1AD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D17140-65A0-43E8-8CC0-1B8087CD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61DB12-0649-40C7-8711-620BA7A1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DAE4E-91F2-4779-B034-9F25B00B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80157C-78AD-43B2-905F-519FDA75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4D4EB7-FAD2-4B21-8494-BF68DE68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5340F5-8A1E-48DD-ADAA-59CBFF43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778852-1347-45CB-907F-37F757BC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8305C8-285B-402F-A321-84EF63C2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65C842-4D84-4CD9-8A87-26B5208E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C31414-CF53-4F93-B7C9-96517F47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0DF1CD-314C-4E3A-A14C-A66321344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66BAB3-7A3D-4049-B5C4-A13BD1D92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6B0D73-1287-4563-A7B5-3B1159067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3D1A-5323-41EF-9C21-A05A0F740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3F03DF-51B4-467E-9C2D-31BC3E3E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9B6FDE-A9AA-40DA-8326-F37393E9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2B715E-9487-4257-B2D2-071C0D46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9162D3-39F2-49C0-8092-E33D781D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442A9C-5997-4272-B2A6-F532FC86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260EAB-D2C9-412E-973E-68B9544B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1D6C7F-21A2-4963-B57F-C1442EF9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BBDBAE-A2BC-4236-B50C-FB5F4C4E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2F0418-A4E6-4C4E-862F-00660A75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3505F6-87C8-45A6-9482-64C79728D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F17D-9DFE-4B1E-95C7-903326F87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96AA6B-47F6-49E2-8C96-6D37C532A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0761D2-9587-4135-9E85-947120CD2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080AAB-435C-4E34-A4BC-003D008F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6A8EC3-3D89-4257-B167-151F2016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E58611-8139-42D3-B3AA-F728D7C4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F71C1B-4BCD-4D3B-8C17-E9FBB12B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1A1B2C-963C-4FFF-8F7F-5F5F1F09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67A47F-58B6-4E84-A8B9-CA3151AE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BDD200-10FF-4A2E-B48C-3EEFAA36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D94626-DF2D-48DE-A8C8-FD16DE92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E1800-31A2-44A4-861F-E0FDC0783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D6464C-F5E9-470D-A038-DF43D855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7CEDE0-C269-40E1-A38E-107C9C28E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819374-DB96-4621-9CED-A27A39763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13C623-A793-49D5-8F93-81791BAC9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B418D2-E1F0-47AA-A6B2-61034A1E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D50F48-EBB4-412A-9FD2-DC87A255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C44550-2FD0-4BDE-A1D7-A544CD63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1E3F75-6090-4CCA-943C-B417DF00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ACDB4A-4ED1-4972-B806-1CB66569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403A7A-0ABA-427F-8526-9C67D88F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241AC-DC45-4A91-B30F-98F0367C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044CF0-5714-42D5-830A-80FA2A1D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FA2378-6317-495F-8431-18155C52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0B8E82-F1D3-41A0-B1D7-E9D3EA56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1F9CCF-F099-40EA-9290-6B00F5CC2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6C73A1-5E4A-49A2-BAD0-1B577445B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215922-ECB9-407D-ACA6-00F55C60B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B19F3D-803F-45AE-B9C0-19792AA5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7606FE-20C7-44BD-AE0D-B7124302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97FA99-9F2C-4DCE-83B8-6EEB11C2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F9CE90-CD44-4D9B-8AB5-781C1BB1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6E163-3F6E-4902-B1A2-C886E3BF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9DFA8F-9318-44C3-A46A-8D2FD3E1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9E8A87-01BE-4E6C-93A4-E14024AF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BFAD27-ECA0-49E0-80A0-711DC9DB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C6BF19-8E6C-4927-890E-8B3E159A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95F87E-5157-42A9-ADF9-DDF2D1A6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89290D-C90D-4745-96D0-9F66111B9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00E5DF-36D8-452E-B6D8-772904380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44D58F-7F17-45F0-9B7C-BDDFF2CAF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4F91259-1090-4C1B-8B2E-600C5CC5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51F4E14-2E80-483F-BEAD-25D4E5D4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678A2-B485-4191-A565-D194653C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0D2292F-E0F4-482C-A14C-22966458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F2B900C-180A-4C47-8D52-F899643D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C920E7C-3365-421C-80EC-000CFA05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7FEDA7-D22E-4BB9-B9A8-A68B5E5F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C0FD942-8518-47C1-ABE0-5E98161E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13B2DFF-9020-40B6-9161-C8DB6F3F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8CA3B7B-C12C-412B-917F-4EAF3E75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1B0B56-7F90-4982-9D34-34710D000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428E7D3-6A3F-4B13-A197-C85019E99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B953379-E0BF-4658-AC6A-D850594D1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BD6FE-938F-4EF6-AF07-9DFEE655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8D89728-D751-4F70-9A6D-D69BE68B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FDB47A9-5363-4D36-9161-0101516D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431220E-7C09-4017-800F-5C311697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346970-C2C6-4518-8BE2-2BA541A1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3B75852-457F-478D-9736-75F8735A4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464C6A7-4E19-4115-8F3C-F5C45AB5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78DCDAC-982C-464E-8281-6BC2183C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81A0AC0-7F78-42E3-8EAC-1B4C72A0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561513-9714-4436-B01A-6A2652DC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95E6B2F-8C3D-4413-A30C-6DE6B2764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EAF6-BEFE-4046-91AD-C77196D1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0CBC1-241A-48C2-A8B3-9D460789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B88602F-1C2C-4CA5-922C-CE994692D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7C4752C-CE48-4275-AD6B-ADF7857FA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74A1679-BF01-4CE2-86CC-19BF1A8E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DD76A65-9B07-40E2-A8E6-7CC50476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D45879B-A125-4D48-8429-FF809745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57743BC-CC22-46CB-9FFA-8346A2E5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C2BAD01-8BF0-40AE-915D-7E9817B2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BBD806F-9053-4252-993F-FCE95995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2EA892B-4E9E-41B1-BC73-508952DF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81151F3-C5F7-4172-9004-93938113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72E2D-DCFE-46C9-89B9-B8226C3D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52CFD02-AFA1-404F-BE56-B637AF6F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4A9A7C9-CECE-4F70-88D1-E67E6BEB1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E27989A-12F0-4514-BC9F-39CEE2AE1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A0DDB8E-249E-4FB6-A5AF-A6A7CD24B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7D7E35D-32B9-4B1B-B45D-87217C6A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7ED345D-1880-4CB4-A95A-7AF91BA9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15C8784-370C-4A12-B459-BEE45641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C9E80E7-610A-4073-92DF-3ECF0E64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5BD9F16-2BD3-4C53-81BE-8E007ACA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BC9A74D-941C-4059-BF46-71FC975B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C36F9-6C7F-40C9-8DA4-DD3466EF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97652A3-575A-4C25-8FDC-A01941F5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3B9D725-553C-4146-88BB-9B4A69E8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7C046CB-778A-4152-94F0-C5A1D6ED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37B2463-05C2-4BB3-8DE2-BB29260F1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7B83543-93FE-43E5-A73F-F480E9AE2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B64DB63-6DED-4E6F-995F-1F3814945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61615FD-2C94-4DD9-8644-CCC937CB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F78D3FE-FEEA-451C-A0ED-46342560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479D4FD-DA89-4419-BF4B-6D9E775B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4C3529E-95DD-45AC-9E8E-6A39F704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CD547-46DB-4853-866B-7C8D79C4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2D6C2E2-6C10-45B1-BECB-1AC99199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CBC7CB6-1F7E-4406-BBBA-5CA34C20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A83B47C-CFC0-4277-AC01-1FF2ABB2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D85DF2A-1DAE-408D-9D37-2E08F122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237DEC1-1ADA-46B8-9ECB-D70E3909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0D2292C-708C-449E-9589-B261248CA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601582A-7D4B-4B4B-A706-CDC77D558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942E06F-9536-4704-9A5C-6DAF69FCA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E5804F4-06E2-4469-AD6A-9EF5DB6F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4173E77-FF26-46BE-82BE-29B9A7FF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7D37B-D9CF-45A3-B208-2389B23C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0502B45-5B60-44C7-B931-76C4853D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0AF1916-A7BF-4231-A5F1-5405424D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E8E8D38-6012-4ED8-8674-C3CFEEB3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B793F55-A0E8-4A32-B8ED-0434A10A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14DE447-F286-44E4-A1C1-BA072951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45BCCA7-F11F-4D99-8649-285FE07A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23587B2-296E-49B7-A339-4221EBAB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715B180-0018-4984-9E19-B28611111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59104BE-93A0-4721-A259-14467E6A7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9180B80-DD3A-415F-AD53-67CB60C5C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B8982-E600-48F4-9200-FE421CA33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5EC4152-4ECD-4B05-A3E3-3C298A35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124BC08-E165-4598-99EC-95CF43CE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B814A47-99AC-4D29-8023-22EC6ECA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4C56BEB-71E6-4AFF-982D-6614E263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9DF300A-9D35-4563-A496-8337417F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21A259C-1224-4A70-9A38-399BE623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F30C21D-0212-44F9-B1DA-DAE05839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5D1A059-4B3F-4F8F-8380-748872E4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B308FE2-E6ED-49AD-AA91-CDC759BA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F786644-FD64-4892-98D5-578D34A59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BEF79-8081-437E-BDE3-86FE8079A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B52E36B-22F7-43D7-9CC2-473537ED3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233050D-FB84-4709-86C5-745DE2A22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CED4B79-1C00-4DC3-81DC-98BCB0CA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69041EC-2252-4882-A772-A58D917B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DED0B66-E136-4B25-B967-66931C71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1920B02-4116-45C3-B2D9-A121C088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829068C-E967-4988-99AE-792D460E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974A79E-EF7E-43AE-94C9-66C93A05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5BD3021-0689-47C5-9AF7-4441DAB7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700F18F-4EF4-4332-BE99-9CEE0A4D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84E58-6DC3-44AD-842A-F806FFA5D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BDF2299-F1F7-4F63-B807-B970D847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9E51FE5-6A61-49E7-895A-1397FB131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E687D6C-0545-4B1F-B54B-504805CEB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91955-F31A-4F6B-9810-C2DD89EC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37460-BB7E-4FCF-9E15-F12DD18F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7909-3BEE-4C7E-BE78-3436A4F4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1D279-25D7-4CFD-9538-B856F63E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C12A4-F088-4A6C-A342-4E4F8DD8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006FA-4BA5-45CD-8FE6-9C0FB82E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65B0E-1A6F-46EC-AB86-30C5B15A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AC88D-083E-4FC0-92E6-E5F4722F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E8A07-8946-4C88-A6DF-5CDCDA30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5AED8-CAEE-44EB-A060-DF160CD8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B159D-CD6F-4BB1-875F-14897F826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00E65-5423-41DD-9AA6-A010EBE48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D4C1E-AAA5-487D-9B64-F755A5265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97EB-7747-49A0-B83E-8AC4C5CC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31DD5-A848-47A6-9E38-B42A0AEC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A89FA-2BAE-43A2-91FA-EA14CCC2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49B6A-EC71-4D9D-96AD-98F46F4C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6A2F2-7674-4B1C-88D7-466A5B36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0AD86-D0B8-4A86-8074-21BBFF73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E1E4F-2EF5-48B6-94F3-E0035985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1C51E-58BD-4C71-8B01-3F3DD087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597E7-5602-49F7-9626-2BB7ED15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61C09-0FF4-44DD-BB8B-5B574655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A3B5C-4E63-43BC-A15F-84465A982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996D-DFB4-4A3C-A87C-78F327AD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9A32E-47E4-4E3C-BD16-F2D0F957B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26E32-623F-4CAA-ACFE-EDF09727C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04B0E-D0A6-4DFE-8C06-0C2EDDE5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96B21-83A0-483C-A647-EC1EBD97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03B5F-DE6E-4EFC-9F4D-017C188B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A06D1-857F-468C-9D8E-A6033477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9A257-4736-493E-A832-E7B63DCF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DAF90-071B-4D21-8A54-E027D0E0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050A3-9F6E-4574-BDD3-079AAC12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E6F30-E6A3-4120-A199-B7CB280B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6211-B651-48AB-9A7F-8FD38F40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A2217-09A0-461C-9A23-E54E35DD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6F722-2116-46D2-AB3F-850487669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38B0D-1701-42B0-8542-BF233875A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979A2-19E1-45EB-BD1B-32EAA2613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58271-B502-46FA-904F-E5DA7F90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FEF96-242B-404E-946B-0F73F687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FDD7B-38A7-46D8-8211-D0FFFD61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BFA41-5AE9-47FC-9C70-1DAD5467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4B460-6D05-4C98-ACB4-83A4F401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CEF6A-5F4B-4C5F-9F90-6E8BDABC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6AD8-51AE-4C2B-9A79-E9733BA8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B8963-6220-469D-8FE5-D74E5B0F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95418-048A-4DE0-8159-A5835F64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3D621-1546-491C-B7AF-024A91C1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2EDFA-C576-49AB-A093-815F950B6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A667D-4C82-497F-A23F-0773C1B26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5BD5A-FCA0-4C7F-BC8F-88C3429ED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CCFFB-5337-4E56-9D6D-C866255B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5B1E2-501F-4AD2-AC51-645BA542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50037-65EF-471A-894D-FBD31A2A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E33AB-A0ED-4C5D-8BA4-1E0F68B4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5676-E491-437F-84D1-26BA3B7B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E9CD5-C396-465A-B0DF-C07E827B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B2B61-F379-4297-8F6F-F905622D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AB7A8-FC02-4DDE-AAAF-F454D3D7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0BBDA-DC74-4429-9692-7445DE84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D4743-C0EE-44F3-8D1F-6D9C83A1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E2F85-D96D-4BA2-86DA-DFCF18E3A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EB289-FFED-44DA-9DBD-7B4E9DB01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180875-B40B-46AB-A2F8-420B0CB21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E4881F-639A-4DBB-B287-B0256244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40355C-4B9B-4F8A-8937-4337C2AE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4320" indent="-184320">
              <a:lnSpc>
                <a:spcPct val="9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183960">
              <a:lnSpc>
                <a:spcPct val="9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27000" indent="-183960">
              <a:lnSpc>
                <a:spcPct val="9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98520" indent="-183960">
              <a:lnSpc>
                <a:spcPct val="9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670040" indent="-183960">
              <a:lnSpc>
                <a:spcPct val="9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670040" indent="-183960">
              <a:lnSpc>
                <a:spcPct val="9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670040" indent="-183960">
              <a:lnSpc>
                <a:spcPct val="9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B647-C335-4E8E-86FF-4217502F4EB4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marL="200160" indent="-2001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34880" indent="-166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669960" indent="-1335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938160" indent="-1332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24768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Corbel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1692000" y="4236840"/>
            <a:ext cx="156852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354960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1B8F-5F86-4840-87AF-BE98BCD36871}" type="slidenum">
              <a:rPr b="0" lang="en-US" sz="7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marL="200160" indent="-2001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34880" indent="-166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669960" indent="-1335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938160" indent="-1332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24768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Corbel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1692000" y="4236840"/>
            <a:ext cx="156852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354960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3AA7-2097-414A-9E02-F3600EBDCF47}" type="slidenum">
              <a:rPr b="0" lang="en-US" sz="7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marL="200160" indent="-2001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34880" indent="-166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669960" indent="-1335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938160" indent="-1332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24768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Corbel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1692000" y="4236840"/>
            <a:ext cx="156852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354960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5126-B07C-4E63-A36B-326C38FFFF46}" type="slidenum">
              <a:rPr b="0" lang="en-US" sz="7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marL="200160" indent="-2001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34880" indent="-166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669960" indent="-1335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938160" indent="-1332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24768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Corbel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1692000" y="4236840"/>
            <a:ext cx="156852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354960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7BA3-115D-4204-8216-89E196B6A9C2}" type="slidenum">
              <a:rPr b="0" lang="en-US" sz="7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marL="200160" indent="-2001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34880" indent="-166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669960" indent="-1335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938160" indent="-1332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24768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Corbel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1692000" y="4236840"/>
            <a:ext cx="156852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354960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D64F-1B03-401D-9966-17980C5623F0}" type="slidenum">
              <a:rPr b="0" lang="en-US" sz="7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marL="200160" indent="-2001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34880" indent="-166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669960" indent="-1335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938160" indent="-1332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24768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Corbel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1692000" y="4236840"/>
            <a:ext cx="156852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354960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B29F-F792-40BF-939E-A3BE1A11F125}" type="slidenum">
              <a:rPr b="0" lang="en-US" sz="7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B2A4-2645-4CF0-809F-BCB554730AB3}" type="datetime">
              <a:rPr b="0" lang="ru-RU" sz="1200" spc="-1" strike="noStrike">
                <a:solidFill>
                  <a:srgbClr val="898989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1D26-E4BA-434A-BE87-776778234339}" type="slidenum">
              <a:rPr b="0" lang="ru-RU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B4C4-51B6-4DA7-8728-7434D508DF64}" type="datetime">
              <a:rPr b="0" lang="ru-RU" sz="1200" spc="-1" strike="noStrike">
                <a:solidFill>
                  <a:srgbClr val="898989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887E-FDAD-49B6-9612-D0122C8CAD88}" type="slidenum">
              <a:rPr b="0" lang="ru-RU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C1F4-4A94-433B-8186-59492872F112}" type="datetime">
              <a:rPr b="0" lang="ru-RU" sz="1200" spc="-1" strike="noStrike">
                <a:solidFill>
                  <a:srgbClr val="898989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FFE7-B51C-4D57-85C6-A404685EBA44}" type="slidenum">
              <a:rPr b="0" lang="ru-RU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2550-5DC4-46EE-8C82-6B124CD7A3ED}" type="datetime">
              <a:rPr b="0" lang="ru-RU" sz="1200" spc="-1" strike="noStrike">
                <a:solidFill>
                  <a:srgbClr val="898989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7FAA-C840-42AA-8BBF-1C0BC8616757}" type="slidenum">
              <a:rPr b="0" lang="ru-RU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7240" y="365040"/>
            <a:ext cx="8544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7240" y="1828440"/>
            <a:ext cx="85442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4320" indent="-184320">
              <a:lnSpc>
                <a:spcPct val="90000"/>
              </a:lnSpc>
              <a:spcBef>
                <a:spcPts val="81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183960">
              <a:lnSpc>
                <a:spcPct val="90000"/>
              </a:lnSpc>
              <a:spcBef>
                <a:spcPts val="81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27000" indent="-183960">
              <a:lnSpc>
                <a:spcPct val="90000"/>
              </a:lnSpc>
              <a:spcBef>
                <a:spcPts val="81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98520" indent="-183960">
              <a:lnSpc>
                <a:spcPct val="90000"/>
              </a:lnSpc>
              <a:spcBef>
                <a:spcPts val="81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670040" indent="-183960">
              <a:lnSpc>
                <a:spcPct val="90000"/>
              </a:lnSpc>
              <a:spcBef>
                <a:spcPts val="81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670040" indent="-183960">
              <a:lnSpc>
                <a:spcPct val="90000"/>
              </a:lnSpc>
              <a:spcBef>
                <a:spcPts val="81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670040" indent="-183960">
              <a:lnSpc>
                <a:spcPct val="90000"/>
              </a:lnSpc>
              <a:spcBef>
                <a:spcPts val="81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9595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95959"/>
                </a:solidFill>
                <a:latin typeface="Corbe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2360" y="6356520"/>
            <a:ext cx="2229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0E63-7738-49AF-9390-AA909F7B234F}" type="slidenum">
              <a:rPr b="0" lang="ru-RU" sz="8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EA6E-12FC-453D-9757-F61825D0B9D7}" type="datetime">
              <a:rPr b="0" lang="ru-RU" sz="1200" spc="-1" strike="noStrike">
                <a:solidFill>
                  <a:srgbClr val="898989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FCCB-BB8A-4A61-8B2C-EED7CF1D657C}" type="slidenum">
              <a:rPr b="0" lang="ru-RU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2B1A-999B-46F3-B47D-4C9BD56F0588}" type="datetime">
              <a:rPr b="0" lang="ru-RU" sz="1200" spc="-1" strike="noStrike">
                <a:solidFill>
                  <a:srgbClr val="898989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9E80-520A-4F58-8D2B-1BC272597940}" type="slidenum">
              <a:rPr b="0" lang="ru-RU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Google Shape;163;p20"/>
          <p:cNvSpPr/>
          <p:nvPr/>
        </p:nvSpPr>
        <p:spPr>
          <a:xfrm>
            <a:off x="0" y="249120"/>
            <a:ext cx="2043000" cy="542880"/>
          </a:xfrm>
          <a:prstGeom prst="roundRect">
            <a:avLst>
              <a:gd name="adj" fmla="val 0"/>
            </a:avLst>
          </a:prstGeom>
          <a:solidFill>
            <a:srgbClr val="0070c0"/>
          </a:solidFill>
          <a:ln w="9360">
            <a:solidFill>
              <a:srgbClr val="1c62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EDU.KZ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64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CF59-0C3B-4138-8DEB-AC59263C6180}" type="datetime">
              <a:rPr b="0" lang="ru-RU" sz="1200" spc="-1" strike="noStrike">
                <a:solidFill>
                  <a:srgbClr val="898989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65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66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6DEB-7D39-4273-AF2B-56CC2E04DBD2}" type="slidenum">
              <a:rPr b="0" lang="ru-RU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dt" idx="67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B2FC-9AEA-4A47-983A-C8E08262F944}" type="datetime">
              <a:rPr b="0" lang="ru-RU" sz="1200" spc="-1" strike="noStrike">
                <a:solidFill>
                  <a:srgbClr val="898989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 type="ftr" idx="68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 type="sldNum" idx="69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035B-6BC3-4FE3-811C-2BC785B3C8D8}" type="slidenum">
              <a:rPr b="0" lang="ru-RU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dt" idx="70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8C4B-AEE1-41D3-B4C3-31628F8B87A7}" type="datetime">
              <a:rPr b="0" lang="ru-RU" sz="1200" spc="-1" strike="noStrike">
                <a:solidFill>
                  <a:srgbClr val="898989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ftr" idx="71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sldNum" idx="72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A2FA-15C2-467A-BA41-4989605B3580}" type="slidenum">
              <a:rPr b="0" lang="ru-RU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dt" idx="73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6570-C496-4F7B-9465-BBBBC43EA416}" type="datetime">
              <a:rPr b="0" lang="ru-RU" sz="1200" spc="-1" strike="noStrike">
                <a:solidFill>
                  <a:srgbClr val="898989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ftr" idx="74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sldNum" idx="75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ED1C-D29E-46EE-8A03-ACE1A3A1EA23}" type="slidenum">
              <a:rPr b="0" lang="ru-RU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 type="dt" idx="76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62FE-D0CA-4081-8094-FFDBEAFAA6E9}" type="datetime">
              <a:rPr b="0" lang="ru-RU" sz="1200" spc="-1" strike="noStrike">
                <a:solidFill>
                  <a:srgbClr val="898989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 type="ftr" idx="77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 type="sldNum" idx="78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3D42-B82B-4605-9EE1-3E4CBE3B0793}" type="slidenum">
              <a:rPr b="0" lang="ru-RU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Прямоугольник 6"/>
          <p:cNvSpPr/>
          <p:nvPr/>
        </p:nvSpPr>
        <p:spPr>
          <a:xfrm>
            <a:off x="681120" y="298440"/>
            <a:ext cx="9225000" cy="963720"/>
          </a:xfrm>
          <a:prstGeom prst="rect">
            <a:avLst/>
          </a:prstGeom>
          <a:solidFill>
            <a:srgbClr val="0b53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8" name="Овал 7"/>
          <p:cNvSpPr/>
          <p:nvPr/>
        </p:nvSpPr>
        <p:spPr>
          <a:xfrm>
            <a:off x="171360" y="103320"/>
            <a:ext cx="1162080" cy="1353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069" name="Рисунок 8" descr=""/>
          <p:cNvPicPr/>
          <p:nvPr/>
        </p:nvPicPr>
        <p:blipFill>
          <a:blip r:embed="rId2"/>
          <a:stretch/>
        </p:blipFill>
        <p:spPr>
          <a:xfrm>
            <a:off x="109440" y="-9360"/>
            <a:ext cx="1285920" cy="1581120"/>
          </a:xfrm>
          <a:prstGeom prst="rect">
            <a:avLst/>
          </a:prstGeom>
          <a:ln w="0">
            <a:noFill/>
          </a:ln>
        </p:spPr>
      </p:pic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79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A3F4-B01D-4D18-9543-21CC1109E0D2}" type="datetime">
              <a:rPr b="0" lang="ru-RU" sz="1200" spc="-1" strike="noStrike">
                <a:solidFill>
                  <a:srgbClr val="898989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80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81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F7E4-9BA5-4334-A107-6D4D300F64B7}" type="slidenum">
              <a:rPr b="0" lang="ru-RU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Прямоугольник 6"/>
          <p:cNvSpPr/>
          <p:nvPr/>
        </p:nvSpPr>
        <p:spPr>
          <a:xfrm>
            <a:off x="681120" y="298440"/>
            <a:ext cx="9225000" cy="963720"/>
          </a:xfrm>
          <a:prstGeom prst="rect">
            <a:avLst/>
          </a:prstGeom>
          <a:solidFill>
            <a:srgbClr val="0b53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2" name="Овал 7"/>
          <p:cNvSpPr/>
          <p:nvPr/>
        </p:nvSpPr>
        <p:spPr>
          <a:xfrm>
            <a:off x="171360" y="103320"/>
            <a:ext cx="1162080" cy="1353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113" name="Рисунок 8" descr=""/>
          <p:cNvPicPr/>
          <p:nvPr/>
        </p:nvPicPr>
        <p:blipFill>
          <a:blip r:embed="rId2"/>
          <a:stretch/>
        </p:blipFill>
        <p:spPr>
          <a:xfrm>
            <a:off x="109440" y="-9360"/>
            <a:ext cx="1285920" cy="1581120"/>
          </a:xfrm>
          <a:prstGeom prst="rect">
            <a:avLst/>
          </a:prstGeom>
          <a:ln w="0">
            <a:noFill/>
          </a:ln>
        </p:spPr>
      </p:pic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 type="dt" idx="82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8E34-D630-4CC0-8EE2-D147FFF3D6BE}" type="datetime">
              <a:rPr b="0" lang="ru-RU" sz="1200" spc="-1" strike="noStrike">
                <a:solidFill>
                  <a:srgbClr val="898989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 type="ftr" idx="83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 type="sldNum" idx="84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32D4-F606-47F0-8234-4E9CEB2F2BDF}" type="slidenum">
              <a:rPr b="0" lang="ru-RU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Прямоугольник 6"/>
          <p:cNvSpPr/>
          <p:nvPr/>
        </p:nvSpPr>
        <p:spPr>
          <a:xfrm>
            <a:off x="681120" y="298440"/>
            <a:ext cx="9225000" cy="963720"/>
          </a:xfrm>
          <a:prstGeom prst="rect">
            <a:avLst/>
          </a:prstGeom>
          <a:solidFill>
            <a:srgbClr val="0b53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6" name="Овал 7"/>
          <p:cNvSpPr/>
          <p:nvPr/>
        </p:nvSpPr>
        <p:spPr>
          <a:xfrm>
            <a:off x="171360" y="103320"/>
            <a:ext cx="1162080" cy="1353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157" name="Рисунок 8" descr=""/>
          <p:cNvPicPr/>
          <p:nvPr/>
        </p:nvPicPr>
        <p:blipFill>
          <a:blip r:embed="rId2"/>
          <a:srcRect l="12500" t="13111" r="12052" b="11446"/>
          <a:stretch/>
        </p:blipFill>
        <p:spPr>
          <a:xfrm>
            <a:off x="312840" y="217440"/>
            <a:ext cx="849240" cy="1044720"/>
          </a:xfrm>
          <a:prstGeom prst="rect">
            <a:avLst/>
          </a:prstGeom>
          <a:ln w="0">
            <a:noFill/>
          </a:ln>
        </p:spPr>
      </p:pic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 type="dt" idx="85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E57F-F2FE-45A7-AE32-BBCE798C7F5E}" type="datetime">
              <a:rPr b="0" lang="ru-RU" sz="1200" spc="-1" strike="noStrike">
                <a:solidFill>
                  <a:srgbClr val="898989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 type="ftr" idx="86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 type="sldNum" idx="87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5C8C-CF85-42CF-88E9-8B11009EA5E2}" type="slidenum">
              <a:rPr b="0" lang="ru-RU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marL="200160" indent="-2001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34880" indent="-166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669960" indent="-1335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938160" indent="-1332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24768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  <a:defRPr b="0" lang="en-US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1692000" y="4236840"/>
            <a:ext cx="156852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354960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  <a:defRPr b="0" lang="en-US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fld id="{44DC797B-B67A-4EB5-83A0-2D6F65E911EE}" type="slidenum">
              <a:rPr b="0" lang="en-US" sz="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Прямоугольник 6"/>
          <p:cNvSpPr/>
          <p:nvPr/>
        </p:nvSpPr>
        <p:spPr>
          <a:xfrm>
            <a:off x="681120" y="298440"/>
            <a:ext cx="9225000" cy="963720"/>
          </a:xfrm>
          <a:prstGeom prst="rect">
            <a:avLst/>
          </a:prstGeom>
          <a:solidFill>
            <a:srgbClr val="0b53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0" name="Овал 7"/>
          <p:cNvSpPr/>
          <p:nvPr/>
        </p:nvSpPr>
        <p:spPr>
          <a:xfrm>
            <a:off x="171360" y="103320"/>
            <a:ext cx="1162080" cy="1353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201" name="Рисунок 8" descr=""/>
          <p:cNvPicPr/>
          <p:nvPr/>
        </p:nvPicPr>
        <p:blipFill>
          <a:blip r:embed="rId2"/>
          <a:srcRect l="12500" t="13111" r="12052" b="11446"/>
          <a:stretch/>
        </p:blipFill>
        <p:spPr>
          <a:xfrm>
            <a:off x="312840" y="217440"/>
            <a:ext cx="849240" cy="1044720"/>
          </a:xfrm>
          <a:prstGeom prst="rect">
            <a:avLst/>
          </a:prstGeom>
          <a:ln w="0">
            <a:noFill/>
          </a:ln>
        </p:spPr>
      </p:pic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 type="dt" idx="88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D000-D947-4FF4-8D99-47F6D9392CCD}" type="datetime">
              <a:rPr b="0" lang="ru-RU" sz="1200" spc="-1" strike="noStrike">
                <a:solidFill>
                  <a:srgbClr val="898989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 type="ftr" idx="89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 type="sldNum" idx="90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4DCD-476D-447B-89F4-9AEE856608CC}" type="slidenum">
              <a:rPr b="0" lang="ru-RU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Прямоугольник 6"/>
          <p:cNvSpPr/>
          <p:nvPr/>
        </p:nvSpPr>
        <p:spPr>
          <a:xfrm>
            <a:off x="681120" y="298440"/>
            <a:ext cx="9225000" cy="963720"/>
          </a:xfrm>
          <a:prstGeom prst="rect">
            <a:avLst/>
          </a:prstGeom>
          <a:solidFill>
            <a:srgbClr val="0b53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4" name="Овал 7"/>
          <p:cNvSpPr/>
          <p:nvPr/>
        </p:nvSpPr>
        <p:spPr>
          <a:xfrm>
            <a:off x="171360" y="103320"/>
            <a:ext cx="1162080" cy="1353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245" name="Рисунок 8" descr=""/>
          <p:cNvPicPr/>
          <p:nvPr/>
        </p:nvPicPr>
        <p:blipFill>
          <a:blip r:embed="rId2"/>
          <a:stretch/>
        </p:blipFill>
        <p:spPr>
          <a:xfrm>
            <a:off x="109440" y="-9360"/>
            <a:ext cx="1285920" cy="1581120"/>
          </a:xfrm>
          <a:prstGeom prst="rect">
            <a:avLst/>
          </a:prstGeom>
          <a:ln w="0">
            <a:noFill/>
          </a:ln>
        </p:spPr>
      </p:pic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 type="dt" idx="9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11A3-81C0-40C6-9BA3-6D1617E5FB91}" type="datetime">
              <a:rPr b="0" lang="ru-RU" sz="1200" spc="-1" strike="noStrike">
                <a:solidFill>
                  <a:srgbClr val="898989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 type="ftr" idx="9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 type="sldNum" idx="9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C6A7-7CBC-46F6-8D58-C6C887FE40C7}" type="slidenum">
              <a:rPr b="0" lang="ru-RU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792A-311A-4D9E-98F2-A85E0B7C094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3B9B-A1DB-471C-BD05-54899B3441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marL="200160" indent="-2001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34880" indent="-166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669960" indent="-1335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938160" indent="-1332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24768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Corbel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1692000" y="4236840"/>
            <a:ext cx="156852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354960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C687-5B20-41E3-880E-F382E10921EE}" type="slidenum">
              <a:rPr b="0" lang="en-US" sz="7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marL="200160" indent="-2001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34880" indent="-166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669960" indent="-1335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938160" indent="-1332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24768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Corbel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1692000" y="4236840"/>
            <a:ext cx="156852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354960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770A-9FE8-4BF5-AEFD-61CE60DFA597}" type="slidenum">
              <a:rPr b="0" lang="en-US" sz="7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marL="200160" indent="-2001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34880" indent="-166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669960" indent="-1335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938160" indent="-1332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24768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Corbel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1692000" y="4236840"/>
            <a:ext cx="156852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354960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A0BB-8D36-41D5-A07D-059A514DC64A}" type="slidenum">
              <a:rPr b="0" lang="en-US" sz="7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marL="200160" indent="-2001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34880" indent="-166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669960" indent="-1335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938160" indent="-1332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24768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Corbel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1692000" y="4236840"/>
            <a:ext cx="156852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354960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F338-2D29-4967-93DC-16E3F237B3C2}" type="slidenum">
              <a:rPr b="0" lang="en-US" sz="7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marL="200160" indent="-2001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34880" indent="-166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669960" indent="-1335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938160" indent="-1332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24768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Corbel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1692000" y="4236840"/>
            <a:ext cx="156852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354960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FF34-AB30-458D-A1B8-CB372230EA1C}" type="slidenum">
              <a:rPr b="0" lang="en-US" sz="7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Прямоугольник 1"/>
          <p:cNvSpPr/>
          <p:nvPr/>
        </p:nvSpPr>
        <p:spPr>
          <a:xfrm>
            <a:off x="0" y="2217600"/>
            <a:ext cx="9906120" cy="2322720"/>
          </a:xfrm>
          <a:prstGeom prst="rect">
            <a:avLst/>
          </a:prstGeom>
          <a:solidFill>
            <a:srgbClr val="4f81bd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5" name="Прямоугольник 7"/>
          <p:cNvSpPr/>
          <p:nvPr/>
        </p:nvSpPr>
        <p:spPr>
          <a:xfrm>
            <a:off x="344520" y="311040"/>
            <a:ext cx="92091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entury Gothic"/>
              </a:rPr>
              <a:t>МИНИСТЕРСТВО ОБРАЗОВАНИЯ И НАУКИ  РЕСПУБЛИКИ КАЗАХСТАН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6" name="Rectangle 6"/>
          <p:cNvSpPr/>
          <p:nvPr/>
        </p:nvSpPr>
        <p:spPr>
          <a:xfrm>
            <a:off x="560520" y="2409840"/>
            <a:ext cx="867888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ОБЕСПЕЧЕНИЕ ДОСТУПНОСТИ И КАЧЕСТВА ДОШКОЛЬНОГО ВОСПИТАНИЯ И ОБУЧЕНИЯ В ЦЕЛЯХ РЕАЛИЗАЦИИ ЦЕЛИ И ЗАДАЧ ГОСУДАРСТВЕННОЙ ПРОГРАММЫ РАЗВИТИЯ ОБРАЗОВАНИЯ И НАУКИ РЕСПУБЛИКИ КАЗАХСТАН НА 2020</a:t>
            </a:r>
            <a:r>
              <a:rPr b="1" lang="kk-KZ" sz="2400" spc="-1" strike="noStrike">
                <a:solidFill>
                  <a:srgbClr val="ffffff"/>
                </a:solidFill>
                <a:latin typeface="Century Gothic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2025 ГОД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7" name="Прямоугольник 14"/>
          <p:cNvSpPr/>
          <p:nvPr/>
        </p:nvSpPr>
        <p:spPr>
          <a:xfrm>
            <a:off x="3624120" y="6273720"/>
            <a:ext cx="25941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entury Gothic"/>
              </a:rPr>
              <a:t>г. Нур-Султан, 2020 год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298" name="Picture 10" descr="C:\Users\Типография\Desktop\МОН РК.png"/>
          <p:cNvPicPr/>
          <p:nvPr/>
        </p:nvPicPr>
        <p:blipFill>
          <a:blip r:embed="rId1"/>
          <a:stretch/>
        </p:blipFill>
        <p:spPr>
          <a:xfrm>
            <a:off x="4330800" y="844560"/>
            <a:ext cx="1198440" cy="1200240"/>
          </a:xfrm>
          <a:prstGeom prst="rect">
            <a:avLst/>
          </a:prstGeom>
          <a:ln w="0">
            <a:noFill/>
          </a:ln>
        </p:spPr>
      </p:pic>
      <p:sp>
        <p:nvSpPr>
          <p:cNvPr id="1299" name="Прямоугольник 1"/>
          <p:cNvSpPr/>
          <p:nvPr/>
        </p:nvSpPr>
        <p:spPr>
          <a:xfrm>
            <a:off x="5345280" y="47671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f4e79"/>
                </a:solidFill>
                <a:latin typeface="Century Gothic"/>
              </a:rPr>
              <a:t>Андыбаева М.С.,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f4e79"/>
                </a:solidFill>
                <a:latin typeface="Century Gothic"/>
              </a:rPr>
              <a:t>главный эксперт КДСО МОН РК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Прямоугольник 3"/>
          <p:cNvSpPr/>
          <p:nvPr/>
        </p:nvSpPr>
        <p:spPr>
          <a:xfrm>
            <a:off x="0" y="287280"/>
            <a:ext cx="1198440" cy="6462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301" name="Рисунок 4" descr="Описание: Описание: Описание: F:\курсив.jpg"/>
          <p:cNvPicPr/>
          <p:nvPr/>
        </p:nvPicPr>
        <p:blipFill>
          <a:blip r:embed="rId1"/>
          <a:srcRect l="4388" t="0" r="10912" b="0"/>
          <a:stretch/>
        </p:blipFill>
        <p:spPr>
          <a:xfrm>
            <a:off x="291960" y="338040"/>
            <a:ext cx="858960" cy="563760"/>
          </a:xfrm>
          <a:prstGeom prst="rect">
            <a:avLst/>
          </a:prstGeom>
          <a:ln w="0">
            <a:noFill/>
          </a:ln>
        </p:spPr>
      </p:pic>
      <p:sp>
        <p:nvSpPr>
          <p:cNvPr id="1302" name="Прямоугольник 8"/>
          <p:cNvSpPr/>
          <p:nvPr/>
        </p:nvSpPr>
        <p:spPr>
          <a:xfrm>
            <a:off x="1103400" y="287280"/>
            <a:ext cx="7726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75b6"/>
                </a:solidFill>
                <a:latin typeface="Segoe UI"/>
                <a:ea typeface="Segoe UI"/>
              </a:rPr>
              <a:t>ГОСУДАРСТВЕНН</a:t>
            </a:r>
            <a:r>
              <a:rPr b="1" lang="kk-KZ" sz="1800" spc="-1" strike="noStrike">
                <a:solidFill>
                  <a:srgbClr val="2e75b6"/>
                </a:solidFill>
                <a:latin typeface="Segoe UI"/>
                <a:ea typeface="Segoe UI"/>
              </a:rPr>
              <a:t>АЯ</a:t>
            </a:r>
            <a:r>
              <a:rPr b="1" lang="ru-RU" sz="1800" spc="-1" strike="noStrike">
                <a:solidFill>
                  <a:srgbClr val="2e75b6"/>
                </a:solidFill>
                <a:latin typeface="Segoe UI"/>
                <a:ea typeface="Segoe UI"/>
              </a:rPr>
              <a:t> ПРОГРАММ</a:t>
            </a:r>
            <a:r>
              <a:rPr b="1" lang="kk-KZ" sz="1800" spc="-1" strike="noStrike">
                <a:solidFill>
                  <a:srgbClr val="2e75b6"/>
                </a:solidFill>
                <a:latin typeface="Segoe UI"/>
                <a:ea typeface="Segoe UI"/>
              </a:rPr>
              <a:t>А</a:t>
            </a:r>
            <a:r>
              <a:rPr b="1" lang="ru-RU" sz="1800" spc="-1" strike="noStrike">
                <a:solidFill>
                  <a:srgbClr val="2e75b6"/>
                </a:solidFill>
                <a:latin typeface="Segoe UI"/>
                <a:ea typeface="Segoe UI"/>
              </a:rPr>
              <a:t> РАЗВИТИЯ ОБРАЗОВАНИЯ И НАУКИ РЕСПУБЛИКИ КАЗАХСТАН НА 20</a:t>
            </a:r>
            <a:r>
              <a:rPr b="1" lang="kk-KZ" sz="1800" spc="-1" strike="noStrike">
                <a:solidFill>
                  <a:srgbClr val="2e75b6"/>
                </a:solidFill>
                <a:latin typeface="Segoe UI"/>
                <a:ea typeface="Segoe UI"/>
              </a:rPr>
              <a:t>20 – </a:t>
            </a:r>
            <a:r>
              <a:rPr b="1" lang="ru-RU" sz="1800" spc="-1" strike="noStrike">
                <a:solidFill>
                  <a:srgbClr val="2e75b6"/>
                </a:solidFill>
                <a:latin typeface="Segoe UI"/>
                <a:ea typeface="Segoe UI"/>
              </a:rPr>
              <a:t>20</a:t>
            </a:r>
            <a:r>
              <a:rPr b="1" lang="kk-KZ" sz="1800" spc="-1" strike="noStrike">
                <a:solidFill>
                  <a:srgbClr val="2e75b6"/>
                </a:solidFill>
                <a:latin typeface="Segoe UI"/>
                <a:ea typeface="Segoe UI"/>
              </a:rPr>
              <a:t>25</a:t>
            </a:r>
            <a:r>
              <a:rPr b="1" lang="ru-RU" sz="1800" spc="-1" strike="noStrike">
                <a:solidFill>
                  <a:srgbClr val="2e75b6"/>
                </a:solidFill>
                <a:latin typeface="Segoe UI"/>
                <a:ea typeface="Segoe UI"/>
              </a:rPr>
              <a:t> ГОД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3" name="Скругленный прямоугольник 1"/>
          <p:cNvSpPr/>
          <p:nvPr/>
        </p:nvSpPr>
        <p:spPr>
          <a:xfrm>
            <a:off x="844560" y="1085760"/>
            <a:ext cx="8148600" cy="1123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75b6"/>
                </a:solidFill>
                <a:latin typeface="Calibri"/>
              </a:rPr>
              <a:t>ЦЕЛЬ: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75b6"/>
                </a:solidFill>
                <a:latin typeface="Calibri"/>
              </a:rPr>
              <a:t>Повышение глобальной конкурентоспособности казахстанского образования и науки, воспитание и обучение личности на основе общечеловеческих       ценностей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4" name="Скругленный прямоугольник 2"/>
          <p:cNvSpPr/>
          <p:nvPr/>
        </p:nvSpPr>
        <p:spPr>
          <a:xfrm>
            <a:off x="844560" y="2362320"/>
            <a:ext cx="8148600" cy="419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1. Обеспечить высокий статус профессии педагога, модернизировать педагогическое образование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2. Сократить разрыв в качестве образования между обучающимися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3. Обеспечить безопасную и комфортную среду обучения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4. Внедрить обновленную систему оценки качества обучающихся, педагогов и организаций образования на основе лучших практик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5. Обеспечить преемственность и непрерывность обучения, профессиональной подготовки в соответствии с потребностями экономики и региональными особенностям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6. Обеспечить интеллектуальное, духовно-нравственное и физическое развитие обучающихся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7. Оснастить организации образования цифровой инфраструктурой и современной материально-технической базой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1117440" y="264600"/>
            <a:ext cx="85154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1" lang="ru-RU" sz="2400" spc="-1" strike="noStrike">
                <a:solidFill>
                  <a:srgbClr val="2e75b6"/>
                </a:solidFill>
                <a:latin typeface="Segoe UI"/>
                <a:ea typeface="Segoe UI"/>
              </a:rPr>
              <a:t>ЦЕЛЕВОЙ ИНДИКАТОР 1. </a:t>
            </a:r>
            <a:br>
              <a:rPr sz="2400"/>
            </a:br>
            <a:r>
              <a:rPr b="1" lang="ru-RU" sz="2400" spc="-1" strike="noStrike">
                <a:solidFill>
                  <a:srgbClr val="2e75b6"/>
                </a:solidFill>
                <a:latin typeface="Segoe UI"/>
                <a:ea typeface="Segoe UI"/>
              </a:rPr>
              <a:t>ОХВАТ ДОШКОЛЬНЫМ ВОСПИТАНИЕМ </a:t>
            </a:r>
            <a:br>
              <a:rPr sz="2400"/>
            </a:br>
            <a:r>
              <a:rPr b="1" lang="ru-RU" sz="2400" spc="-1" strike="noStrike">
                <a:solidFill>
                  <a:srgbClr val="2e75b6"/>
                </a:solidFill>
                <a:latin typeface="Segoe UI"/>
                <a:ea typeface="Segoe UI"/>
              </a:rPr>
              <a:t>И ОБУЧЕНИЕМ ДЕТЕЙ (%)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6" name="Прямоугольник 4"/>
          <p:cNvSpPr/>
          <p:nvPr/>
        </p:nvSpPr>
        <p:spPr>
          <a:xfrm>
            <a:off x="895320" y="2502000"/>
            <a:ext cx="2951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2020 год – 8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2021 год – 81,7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2022 год – 82,6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2023 год – 83,5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2024 год – 84,6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2025 год – 85,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от 3 до 6 лет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2020-2025 годы  - 100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7" name="Прямоугольник 7"/>
          <p:cNvSpPr/>
          <p:nvPr/>
        </p:nvSpPr>
        <p:spPr>
          <a:xfrm>
            <a:off x="4568760" y="2793960"/>
            <a:ext cx="246240" cy="2865600"/>
          </a:xfrm>
          <a:prstGeom prst="rect">
            <a:avLst/>
          </a:prstGeom>
          <a:solidFill>
            <a:srgbClr val="4f81bd"/>
          </a:solidFill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8" name="Прямоугольник 11"/>
          <p:cNvSpPr/>
          <p:nvPr/>
        </p:nvSpPr>
        <p:spPr>
          <a:xfrm>
            <a:off x="5308560" y="2657520"/>
            <a:ext cx="246240" cy="3002040"/>
          </a:xfrm>
          <a:prstGeom prst="rect">
            <a:avLst/>
          </a:prstGeom>
          <a:solidFill>
            <a:srgbClr val="4f81bd"/>
          </a:solidFill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9" name="Прямоугольник 12"/>
          <p:cNvSpPr/>
          <p:nvPr/>
        </p:nvSpPr>
        <p:spPr>
          <a:xfrm>
            <a:off x="6060960" y="2492280"/>
            <a:ext cx="246240" cy="3167280"/>
          </a:xfrm>
          <a:prstGeom prst="rect">
            <a:avLst/>
          </a:prstGeom>
          <a:solidFill>
            <a:srgbClr val="4f81bd"/>
          </a:solidFill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0" name="Прямоугольник 13"/>
          <p:cNvSpPr/>
          <p:nvPr/>
        </p:nvSpPr>
        <p:spPr>
          <a:xfrm>
            <a:off x="6788160" y="2328840"/>
            <a:ext cx="244440" cy="3330720"/>
          </a:xfrm>
          <a:prstGeom prst="rect">
            <a:avLst/>
          </a:prstGeom>
          <a:solidFill>
            <a:srgbClr val="4f81bd"/>
          </a:solidFill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1" name="Прямоугольник 14"/>
          <p:cNvSpPr/>
          <p:nvPr/>
        </p:nvSpPr>
        <p:spPr>
          <a:xfrm>
            <a:off x="7512120" y="2165400"/>
            <a:ext cx="245880" cy="3494160"/>
          </a:xfrm>
          <a:prstGeom prst="rect">
            <a:avLst/>
          </a:prstGeom>
          <a:solidFill>
            <a:srgbClr val="4f81bd"/>
          </a:solidFill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2" name="Прямоугольник 15"/>
          <p:cNvSpPr/>
          <p:nvPr/>
        </p:nvSpPr>
        <p:spPr>
          <a:xfrm>
            <a:off x="8265960" y="2055960"/>
            <a:ext cx="244800" cy="3603600"/>
          </a:xfrm>
          <a:prstGeom prst="rect">
            <a:avLst/>
          </a:prstGeom>
          <a:solidFill>
            <a:srgbClr val="4f81bd"/>
          </a:solidFill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3" name="Прямоугольник 8"/>
          <p:cNvSpPr/>
          <p:nvPr/>
        </p:nvSpPr>
        <p:spPr>
          <a:xfrm>
            <a:off x="4339440" y="56595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2020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4" name="Прямоугольник 17"/>
          <p:cNvSpPr/>
          <p:nvPr/>
        </p:nvSpPr>
        <p:spPr>
          <a:xfrm>
            <a:off x="5079240" y="56484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202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5" name="Прямоугольник 18"/>
          <p:cNvSpPr/>
          <p:nvPr/>
        </p:nvSpPr>
        <p:spPr>
          <a:xfrm>
            <a:off x="5842800" y="56484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2022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6" name="Прямоугольник 19"/>
          <p:cNvSpPr/>
          <p:nvPr/>
        </p:nvSpPr>
        <p:spPr>
          <a:xfrm>
            <a:off x="6582600" y="56372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202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7" name="Прямоугольник 20"/>
          <p:cNvSpPr/>
          <p:nvPr/>
        </p:nvSpPr>
        <p:spPr>
          <a:xfrm>
            <a:off x="7306560" y="56372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2024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8" name="Прямоугольник 21"/>
          <p:cNvSpPr/>
          <p:nvPr/>
        </p:nvSpPr>
        <p:spPr>
          <a:xfrm>
            <a:off x="8044560" y="56260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2025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9" name="Прямоугольник 22"/>
          <p:cNvSpPr/>
          <p:nvPr/>
        </p:nvSpPr>
        <p:spPr>
          <a:xfrm>
            <a:off x="4466520" y="2413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0" name="Прямоугольник 23"/>
          <p:cNvSpPr/>
          <p:nvPr/>
        </p:nvSpPr>
        <p:spPr>
          <a:xfrm>
            <a:off x="5081040" y="22525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81,7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1" name="Прямоугольник 24"/>
          <p:cNvSpPr/>
          <p:nvPr/>
        </p:nvSpPr>
        <p:spPr>
          <a:xfrm>
            <a:off x="5846400" y="21286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82,6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2" name="Прямоугольник 25"/>
          <p:cNvSpPr/>
          <p:nvPr/>
        </p:nvSpPr>
        <p:spPr>
          <a:xfrm>
            <a:off x="6584400" y="191304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83,5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3" name="Прямоугольник 26"/>
          <p:cNvSpPr/>
          <p:nvPr/>
        </p:nvSpPr>
        <p:spPr>
          <a:xfrm>
            <a:off x="7308360" y="177624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84,6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4" name="Прямоугольник 27"/>
          <p:cNvSpPr/>
          <p:nvPr/>
        </p:nvSpPr>
        <p:spPr>
          <a:xfrm>
            <a:off x="8048160" y="16146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85,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5" name="Прямоугольник 23"/>
          <p:cNvSpPr/>
          <p:nvPr/>
        </p:nvSpPr>
        <p:spPr>
          <a:xfrm>
            <a:off x="0" y="287280"/>
            <a:ext cx="1198440" cy="6462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326" name="Рисунок 4" descr="Описание: Описание: Описание: F:\курсив.jpg"/>
          <p:cNvPicPr/>
          <p:nvPr/>
        </p:nvPicPr>
        <p:blipFill>
          <a:blip r:embed="rId1"/>
          <a:srcRect l="4388" t="0" r="10912" b="0"/>
          <a:stretch/>
        </p:blipFill>
        <p:spPr>
          <a:xfrm>
            <a:off x="291960" y="338040"/>
            <a:ext cx="858960" cy="5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Прямая соединительная линия 6"/>
          <p:cNvSpPr/>
          <p:nvPr/>
        </p:nvSpPr>
        <p:spPr>
          <a:xfrm>
            <a:off x="2228760" y="4408560"/>
            <a:ext cx="970200" cy="0"/>
          </a:xfrm>
          <a:prstGeom prst="line">
            <a:avLst/>
          </a:prstGeom>
          <a:ln w="57240">
            <a:solidFill>
              <a:srgbClr val="a6a6a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8" name="Прямая соединительная линия 61"/>
          <p:cNvSpPr/>
          <p:nvPr/>
        </p:nvSpPr>
        <p:spPr>
          <a:xfrm>
            <a:off x="3198960" y="4408560"/>
            <a:ext cx="849240" cy="0"/>
          </a:xfrm>
          <a:prstGeom prst="line">
            <a:avLst/>
          </a:prstGeom>
          <a:ln w="57240">
            <a:solidFill>
              <a:srgbClr val="a6a6a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9" name="Скругленный прямоугольник 30"/>
          <p:cNvSpPr/>
          <p:nvPr/>
        </p:nvSpPr>
        <p:spPr>
          <a:xfrm>
            <a:off x="3336840" y="1020600"/>
            <a:ext cx="3571920" cy="1892520"/>
          </a:xfrm>
          <a:prstGeom prst="roundRect">
            <a:avLst>
              <a:gd name="adj" fmla="val 6361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719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ых организаций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них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906 800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), из них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х садов –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843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них детей –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8 388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-центров –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 876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них детей –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8 41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0" name="Скругленный прямоугольник 31"/>
          <p:cNvSpPr/>
          <p:nvPr/>
        </p:nvSpPr>
        <p:spPr>
          <a:xfrm>
            <a:off x="841320" y="2519280"/>
            <a:ext cx="2746440" cy="1757520"/>
          </a:xfrm>
          <a:prstGeom prst="roundRect">
            <a:avLst>
              <a:gd name="adj" fmla="val 6361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х ДО -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269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. (в них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9 020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), из них: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 829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х садов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в них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7 998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),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 440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-центров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них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1 022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1" name="TextBox 32"/>
          <p:cNvSpPr/>
          <p:nvPr/>
        </p:nvSpPr>
        <p:spPr>
          <a:xfrm>
            <a:off x="3083040" y="5448240"/>
            <a:ext cx="3652560" cy="890640"/>
          </a:xfrm>
          <a:prstGeom prst="rect">
            <a:avLst/>
          </a:prstGeom>
          <a:solidFill>
            <a:srgbClr val="c8e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6 лет - 78,7%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6 лет - 98,5%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3 лет – 42,7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2" name="Прямая соединительная линия 33"/>
          <p:cNvSpPr/>
          <p:nvPr/>
        </p:nvSpPr>
        <p:spPr>
          <a:xfrm>
            <a:off x="4898880" y="4386240"/>
            <a:ext cx="851040" cy="0"/>
          </a:xfrm>
          <a:prstGeom prst="line">
            <a:avLst/>
          </a:prstGeom>
          <a:ln w="57240">
            <a:solidFill>
              <a:srgbClr val="a6a6a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3" name="Прямая соединительная линия 34"/>
          <p:cNvSpPr/>
          <p:nvPr/>
        </p:nvSpPr>
        <p:spPr>
          <a:xfrm>
            <a:off x="4048200" y="4403880"/>
            <a:ext cx="850680" cy="0"/>
          </a:xfrm>
          <a:prstGeom prst="line">
            <a:avLst/>
          </a:prstGeom>
          <a:ln w="57240">
            <a:solidFill>
              <a:srgbClr val="a6a6a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4" name="Прямая соединительная линия 35"/>
          <p:cNvSpPr/>
          <p:nvPr/>
        </p:nvSpPr>
        <p:spPr>
          <a:xfrm>
            <a:off x="5773680" y="4383000"/>
            <a:ext cx="851040" cy="0"/>
          </a:xfrm>
          <a:prstGeom prst="line">
            <a:avLst/>
          </a:prstGeom>
          <a:ln w="57240">
            <a:solidFill>
              <a:srgbClr val="a6a6a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5" name="Прямая соединительная линия 36"/>
          <p:cNvSpPr/>
          <p:nvPr/>
        </p:nvSpPr>
        <p:spPr>
          <a:xfrm>
            <a:off x="6624720" y="4361040"/>
            <a:ext cx="850680" cy="0"/>
          </a:xfrm>
          <a:prstGeom prst="line">
            <a:avLst/>
          </a:prstGeom>
          <a:ln w="57240">
            <a:solidFill>
              <a:srgbClr val="a6a6a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6" name="Прямоугольник 3"/>
          <p:cNvSpPr/>
          <p:nvPr/>
        </p:nvSpPr>
        <p:spPr>
          <a:xfrm>
            <a:off x="478440" y="4883040"/>
            <a:ext cx="89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b5395"/>
                </a:solidFill>
                <a:latin typeface="Segoe UI"/>
                <a:ea typeface="Segoe UI"/>
              </a:rPr>
              <a:t>ОХВАТ ДЕТЕЙ ДОШКОЛЬНЫМ ВОСПИТАНИЕМ И ОБУЧЕНИЕМ СОСТАВЛЯЕТ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337" name="Picture 2" descr=""/>
          <p:cNvPicPr/>
          <p:nvPr/>
        </p:nvPicPr>
        <p:blipFill>
          <a:blip r:embed="rId1"/>
          <a:stretch/>
        </p:blipFill>
        <p:spPr>
          <a:xfrm>
            <a:off x="7292880" y="5235480"/>
            <a:ext cx="1062000" cy="1195560"/>
          </a:xfrm>
          <a:prstGeom prst="rect">
            <a:avLst/>
          </a:prstGeom>
          <a:ln w="0">
            <a:noFill/>
          </a:ln>
        </p:spPr>
      </p:pic>
      <p:pic>
        <p:nvPicPr>
          <p:cNvPr id="1338" name="Picture 5" descr=""/>
          <p:cNvPicPr/>
          <p:nvPr/>
        </p:nvPicPr>
        <p:blipFill>
          <a:blip r:embed="rId2"/>
          <a:stretch/>
        </p:blipFill>
        <p:spPr>
          <a:xfrm>
            <a:off x="1590840" y="5275440"/>
            <a:ext cx="1179360" cy="1116000"/>
          </a:xfrm>
          <a:prstGeom prst="rect">
            <a:avLst/>
          </a:prstGeom>
          <a:ln w="0">
            <a:noFill/>
          </a:ln>
        </p:spPr>
      </p:pic>
      <p:sp>
        <p:nvSpPr>
          <p:cNvPr id="1339" name="Выгнутая вниз стрелка 8"/>
          <p:cNvSpPr/>
          <p:nvPr/>
        </p:nvSpPr>
        <p:spPr>
          <a:xfrm rot="9328800">
            <a:off x="2277360" y="1464480"/>
            <a:ext cx="987480" cy="731880"/>
          </a:xfrm>
          <a:custGeom>
            <a:avLst/>
            <a:gdLst>
              <a:gd name="textAreaLeft" fmla="*/ 178200 w 987480"/>
              <a:gd name="textAreaRight" fmla="*/ 717840 w 987480"/>
              <a:gd name="textAreaTop" fmla="*/ 97920 h 731880"/>
              <a:gd name="textAreaBottom" fmla="*/ 633960 h 73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799" hR="21600" stAng="10800000" swAng="-5400000"/>
                <a:lnTo>
                  <a:pt x="11801" y="21600"/>
                </a:lnTo>
                <a:arcTo wR="7799" hR="21600" stAng="5400000" swAng="-3265773"/>
                <a:lnTo>
                  <a:pt x="21352" y="5400"/>
                </a:lnTo>
                <a:lnTo>
                  <a:pt x="17598" y="0"/>
                </a:lnTo>
                <a:lnTo>
                  <a:pt x="13348" y="5400"/>
                </a:lnTo>
                <a:lnTo>
                  <a:pt x="15349" y="5400"/>
                </a:lnTo>
                <a:arcTo wR="7799" hR="21600" stAng="2134227" swAng="2937276"/>
                <a:lnTo>
                  <a:pt x="9800" y="20877"/>
                </a:lnTo>
                <a:arcTo wR="7799" hR="21600" stAng="5728497" swAng="5071503"/>
                <a:close/>
              </a:path>
              <a:path fill="darkenLess" w="21600" h="21600">
                <a:moveTo>
                  <a:pt x="0" y="0"/>
                </a:moveTo>
                <a:arcTo wR="7799" hR="21600" stAng="10800000" swAng="-5400000"/>
                <a:lnTo>
                  <a:pt x="11801" y="21600"/>
                </a:lnTo>
                <a:arcTo wR="7799" hR="21600" stAng="5400000" swAng="328497"/>
                <a:lnTo>
                  <a:pt x="9800" y="20877"/>
                </a:lnTo>
                <a:arcTo wR="7799" hR="21600" stAng="5728497" swAng="5071503"/>
                <a:close/>
              </a:path>
            </a:pathLst>
          </a:custGeom>
          <a:solidFill>
            <a:srgbClr val="0f6fc6"/>
          </a:solidFill>
          <a:ln w="1260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0" name="Выгнутая вправо стрелка 9"/>
          <p:cNvSpPr/>
          <p:nvPr/>
        </p:nvSpPr>
        <p:spPr>
          <a:xfrm rot="18163800">
            <a:off x="7156440" y="1409400"/>
            <a:ext cx="731880" cy="988920"/>
          </a:xfrm>
          <a:custGeom>
            <a:avLst/>
            <a:gdLst>
              <a:gd name="textAreaLeft" fmla="*/ 97920 w 731880"/>
              <a:gd name="textAreaRight" fmla="*/ 633960 w 731880"/>
              <a:gd name="textAreaTop" fmla="*/ 178560 h 988920"/>
              <a:gd name="textAreaBottom" fmla="*/ 718920 h 9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803" stAng="-5400000" swAng="5400000"/>
                <a:lnTo>
                  <a:pt x="21600" y="11799"/>
                </a:lnTo>
                <a:arcTo wR="21600" hR="7803" stAng="0" swAng="3266711"/>
                <a:lnTo>
                  <a:pt x="5400" y="21352"/>
                </a:lnTo>
                <a:lnTo>
                  <a:pt x="0" y="17604"/>
                </a:lnTo>
                <a:lnTo>
                  <a:pt x="5400" y="13360"/>
                </a:lnTo>
                <a:lnTo>
                  <a:pt x="5400" y="15358"/>
                </a:lnTo>
                <a:arcTo wR="21600" hR="7803" stAng="3266711" swAng="-2938752"/>
                <a:lnTo>
                  <a:pt x="20880" y="9801"/>
                </a:lnTo>
                <a:arcTo wR="21600" hR="7803" stAng="-327960" swAng="-5072040"/>
                <a:close/>
              </a:path>
              <a:path fill="darkenLess" w="21600" h="21600">
                <a:moveTo>
                  <a:pt x="0" y="0"/>
                </a:moveTo>
                <a:arcTo wR="21600" hR="7803" stAng="-5400000" swAng="5400000"/>
                <a:lnTo>
                  <a:pt x="21600" y="11799"/>
                </a:lnTo>
                <a:arcTo wR="21600" hR="7803" stAng="0" swAng="-327960"/>
                <a:lnTo>
                  <a:pt x="20880" y="9801"/>
                </a:lnTo>
                <a:arcTo wR="21600" hR="7803" stAng="-327960" swAng="-5072040"/>
                <a:close/>
              </a:path>
            </a:pathLst>
          </a:custGeom>
          <a:solidFill>
            <a:srgbClr val="0f6fc6"/>
          </a:solidFill>
          <a:ln w="1260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1" name="Прямоугольник 1"/>
          <p:cNvSpPr/>
          <p:nvPr/>
        </p:nvSpPr>
        <p:spPr>
          <a:xfrm>
            <a:off x="384120" y="331920"/>
            <a:ext cx="914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5395"/>
                </a:solidFill>
                <a:latin typeface="Segoe UI"/>
                <a:ea typeface="Segoe UI"/>
              </a:rPr>
              <a:t>В РЕСПУБЛИКЕ ФУНКЦИОНИРУЮ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2" name="Скругленный прямоугольник 52"/>
          <p:cNvSpPr/>
          <p:nvPr/>
        </p:nvSpPr>
        <p:spPr>
          <a:xfrm>
            <a:off x="6404040" y="2600280"/>
            <a:ext cx="2825640" cy="1650960"/>
          </a:xfrm>
          <a:prstGeom prst="roundRect">
            <a:avLst>
              <a:gd name="adj" fmla="val 6361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ных ДО -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450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них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7 780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), из них: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 014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ных детских садов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них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0 390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),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6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астных мини-центра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них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 390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)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3" name="Прямоугольник 23"/>
          <p:cNvSpPr/>
          <p:nvPr/>
        </p:nvSpPr>
        <p:spPr>
          <a:xfrm>
            <a:off x="0" y="287280"/>
            <a:ext cx="1198440" cy="6462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344" name="Рисунок 4" descr="Описание: Описание: Описание: F:\курсив.jpg"/>
          <p:cNvPicPr/>
          <p:nvPr/>
        </p:nvPicPr>
        <p:blipFill>
          <a:blip r:embed="rId3"/>
          <a:srcRect l="4388" t="0" r="10912" b="0"/>
          <a:stretch/>
        </p:blipFill>
        <p:spPr>
          <a:xfrm>
            <a:off x="291960" y="338040"/>
            <a:ext cx="858960" cy="563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5" name="Группа 3"/>
          <p:cNvGrpSpPr/>
          <p:nvPr/>
        </p:nvGrpSpPr>
        <p:grpSpPr>
          <a:xfrm>
            <a:off x="149400" y="1301760"/>
            <a:ext cx="1643040" cy="1460520"/>
            <a:chOff x="149400" y="1301760"/>
            <a:chExt cx="1643040" cy="1460520"/>
          </a:xfrm>
        </p:grpSpPr>
        <p:pic>
          <p:nvPicPr>
            <p:cNvPr id="1346" name="Рисунок 18" descr=""/>
            <p:cNvPicPr/>
            <p:nvPr/>
          </p:nvPicPr>
          <p:blipFill>
            <a:blip r:embed="rId1"/>
            <a:stretch/>
          </p:blipFill>
          <p:spPr>
            <a:xfrm>
              <a:off x="149400" y="1301760"/>
              <a:ext cx="1643040" cy="14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7" name="Прямоугольник 19"/>
            <p:cNvSpPr/>
            <p:nvPr/>
          </p:nvSpPr>
          <p:spPr>
            <a:xfrm>
              <a:off x="852840" y="1789200"/>
              <a:ext cx="24084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pic>
        <p:nvPicPr>
          <p:cNvPr id="1348" name="Рисунок 6" descr=""/>
          <p:cNvPicPr/>
          <p:nvPr/>
        </p:nvPicPr>
        <p:blipFill>
          <a:blip r:embed="rId2"/>
          <a:srcRect l="3598" t="70380" r="67132" b="2735"/>
          <a:stretch/>
        </p:blipFill>
        <p:spPr>
          <a:xfrm>
            <a:off x="200160" y="4154400"/>
            <a:ext cx="1557360" cy="1428840"/>
          </a:xfrm>
          <a:prstGeom prst="rect">
            <a:avLst/>
          </a:prstGeom>
          <a:ln w="0">
            <a:noFill/>
          </a:ln>
        </p:spPr>
      </p:pic>
      <p:sp>
        <p:nvSpPr>
          <p:cNvPr id="1349" name="Скругленный прямоугольник 21"/>
          <p:cNvSpPr/>
          <p:nvPr/>
        </p:nvSpPr>
        <p:spPr>
          <a:xfrm>
            <a:off x="2044800" y="790560"/>
            <a:ext cx="7497720" cy="6253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 4 тыс. (88,8%) частных ДО на 320 тыс.детей размещен госзаказ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0" name="Скругленный прямоугольник 22"/>
          <p:cNvSpPr/>
          <p:nvPr/>
        </p:nvSpPr>
        <p:spPr>
          <a:xfrm>
            <a:off x="2044800" y="3684600"/>
            <a:ext cx="7515000" cy="950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 дошкольных организациях работают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97 322 педагогов; из них с высшим образованием - 62 957 чел.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 техническим и профессиональным образованием -- 31 849 че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1" name="Скругленный прямоугольник 23"/>
          <p:cNvSpPr/>
          <p:nvPr/>
        </p:nvSpPr>
        <p:spPr>
          <a:xfrm>
            <a:off x="2044800" y="1644480"/>
            <a:ext cx="7495920" cy="8146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 состоянию на 7 августа 2020 года около 125 тыс.детей или 28,1% получили направление в ДО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2" name="Скругленный прямоугольник 24"/>
          <p:cNvSpPr/>
          <p:nvPr/>
        </p:nvSpPr>
        <p:spPr>
          <a:xfrm>
            <a:off x="2044800" y="2662200"/>
            <a:ext cx="7515000" cy="8143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 состоянию на май 2020 года в очереди стояли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коло 444 тыс.детей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3" name="Скругленный прямоугольник 25"/>
          <p:cNvSpPr/>
          <p:nvPr/>
        </p:nvSpPr>
        <p:spPr>
          <a:xfrm>
            <a:off x="2044800" y="4780080"/>
            <a:ext cx="7515000" cy="682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 техническим и профессиональным образованием -- 31 849 че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4" name="Прямоугольник 7"/>
          <p:cNvSpPr/>
          <p:nvPr/>
        </p:nvSpPr>
        <p:spPr>
          <a:xfrm>
            <a:off x="2837520" y="291312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5" name="Скругленный прямоугольник 27"/>
          <p:cNvSpPr/>
          <p:nvPr/>
        </p:nvSpPr>
        <p:spPr>
          <a:xfrm>
            <a:off x="2044800" y="5680080"/>
            <a:ext cx="7515000" cy="593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 общим средним образованием - 2 516 че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356" name="Рисунок 18" descr=""/>
          <p:cNvPicPr/>
          <p:nvPr/>
        </p:nvPicPr>
        <p:blipFill>
          <a:blip r:embed="rId3"/>
          <a:srcRect l="0" t="0" r="0" b="8714"/>
          <a:stretch/>
        </p:blipFill>
        <p:spPr>
          <a:xfrm>
            <a:off x="297000" y="2762280"/>
            <a:ext cx="1363680" cy="1244520"/>
          </a:xfrm>
          <a:prstGeom prst="rect">
            <a:avLst/>
          </a:prstGeom>
          <a:ln w="0">
            <a:noFill/>
          </a:ln>
        </p:spPr>
      </p:pic>
      <p:sp>
        <p:nvSpPr>
          <p:cNvPr id="1357" name="Прямоугольник 39"/>
          <p:cNvSpPr/>
          <p:nvPr/>
        </p:nvSpPr>
        <p:spPr>
          <a:xfrm>
            <a:off x="0" y="287280"/>
            <a:ext cx="1198440" cy="6462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358" name="Рисунок 4" descr="Описание: Описание: Описание: F:\курсив.jpg"/>
          <p:cNvPicPr/>
          <p:nvPr/>
        </p:nvPicPr>
        <p:blipFill>
          <a:blip r:embed="rId4"/>
          <a:srcRect l="4388" t="0" r="10912" b="0"/>
          <a:stretch/>
        </p:blipFill>
        <p:spPr>
          <a:xfrm>
            <a:off x="291960" y="338040"/>
            <a:ext cx="858960" cy="563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1362240" y="274320"/>
            <a:ext cx="737208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1" lang="kk-KZ" sz="1800" spc="-1" strike="noStrike">
                <a:solidFill>
                  <a:srgbClr val="2e75b6"/>
                </a:solidFill>
                <a:latin typeface="Segoe UI"/>
                <a:ea typeface="Segoe UI"/>
              </a:rPr>
              <a:t>СОВЕРШЕНСТВОВАНИЕ НОРМАТИВНЫХ ПРАВОВЫХ АКТОВ СИСТЕМЫ ДОШКОЛЬНОГО ВОСПИТАНИЯ И ОБУЧЕНИЯ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0" name="Скругленный прямоугольник 1"/>
          <p:cNvSpPr/>
          <p:nvPr/>
        </p:nvSpPr>
        <p:spPr>
          <a:xfrm>
            <a:off x="1000080" y="1114560"/>
            <a:ext cx="7904160" cy="809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Государственный общеобязательный стандарт дошкольного воспитания и обучения (приказ МОН РК от 5 мая 2020 года № 182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1" name="Скругленный прямоугольник 6"/>
          <p:cNvSpPr/>
          <p:nvPr/>
        </p:nvSpPr>
        <p:spPr>
          <a:xfrm>
            <a:off x="1000080" y="2027160"/>
            <a:ext cx="7904160" cy="746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Типовые учебные планы дошкольного воспитания и обучения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(приказ МОН РК от 12 мая 2020 года № 195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2" name="Скругленный прямоугольник 7"/>
          <p:cNvSpPr/>
          <p:nvPr/>
        </p:nvSpPr>
        <p:spPr>
          <a:xfrm>
            <a:off x="1000080" y="3828960"/>
            <a:ext cx="7904160" cy="7984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Типовая учебная программа дошкольного воспитания и обучения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(приказ МОН РК от  6 марта 2020 года № 90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3" name="Скругленный прямоугольник 8"/>
          <p:cNvSpPr/>
          <p:nvPr/>
        </p:nvSpPr>
        <p:spPr>
          <a:xfrm>
            <a:off x="1000080" y="2887560"/>
            <a:ext cx="7904160" cy="838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Типовые правила деятельности дошкольных организаций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(приказ МОН РК от 18 мая 2020 года № 207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4" name="Скругленный прямоугольник 9"/>
          <p:cNvSpPr/>
          <p:nvPr/>
        </p:nvSpPr>
        <p:spPr>
          <a:xfrm>
            <a:off x="1000080" y="4727520"/>
            <a:ext cx="7904160" cy="9050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Типовой договор оказания образовательных услуг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для дошкольных организаций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(приказ МОН РК от 15 апреля 2020 года № 143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5" name="Скругленный прямоугольник 10"/>
          <p:cNvSpPr/>
          <p:nvPr/>
        </p:nvSpPr>
        <p:spPr>
          <a:xfrm>
            <a:off x="1000080" y="5742000"/>
            <a:ext cx="7904160" cy="766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авила оказания государственных услуг в сфере дошкольного образования (приказ МОН РК от 19 июня 2020 года № 254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6" name="Прямоугольник 14"/>
          <p:cNvSpPr/>
          <p:nvPr/>
        </p:nvSpPr>
        <p:spPr>
          <a:xfrm>
            <a:off x="0" y="287280"/>
            <a:ext cx="1198440" cy="6462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367" name="Рисунок 4" descr="Описание: Описание: Описание: F:\курсив.jpg"/>
          <p:cNvPicPr/>
          <p:nvPr/>
        </p:nvPicPr>
        <p:blipFill>
          <a:blip r:embed="rId1"/>
          <a:srcRect l="4388" t="0" r="10912" b="0"/>
          <a:stretch/>
        </p:blipFill>
        <p:spPr>
          <a:xfrm>
            <a:off x="291960" y="338040"/>
            <a:ext cx="858960" cy="5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Прямоугольник 24"/>
          <p:cNvSpPr/>
          <p:nvPr/>
        </p:nvSpPr>
        <p:spPr>
          <a:xfrm>
            <a:off x="1109520" y="1568520"/>
            <a:ext cx="816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4f81bd"/>
                </a:solidFill>
                <a:latin typeface="Segoe UI"/>
                <a:ea typeface="Segoe U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4f81bd"/>
                </a:solidFill>
                <a:latin typeface="Segoe UI"/>
                <a:ea typeface="Segoe U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9" name="Прямоугольник 1"/>
          <p:cNvSpPr/>
          <p:nvPr/>
        </p:nvSpPr>
        <p:spPr>
          <a:xfrm>
            <a:off x="3267360" y="339840"/>
            <a:ext cx="329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Segoe UI"/>
                <a:ea typeface="Segoe UI"/>
              </a:rPr>
              <a:t>РАЗРАБОТАН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0" name="Скругленный прямоугольник 2"/>
          <p:cNvSpPr/>
          <p:nvPr/>
        </p:nvSpPr>
        <p:spPr>
          <a:xfrm>
            <a:off x="1173240" y="1476360"/>
            <a:ext cx="7667640" cy="19749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Методические рекомендации «Введение института домашних воспитателей (социальных нянь), в том числе в штатных расписаниях дошкольных организаций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1" name="Скругленный прямоугольник 7"/>
          <p:cNvSpPr/>
          <p:nvPr/>
        </p:nvSpPr>
        <p:spPr>
          <a:xfrm>
            <a:off x="1201680" y="3886200"/>
            <a:ext cx="7667640" cy="2085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Рекомендации по созданию групп кратковременного пребывания при дошкольных организациях для обучения и воспитания детей 1-2 лет из малообеспеченных и многодетных семей, семей, воспитывающих детей-инвалид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2" name="Прямоугольник 10"/>
          <p:cNvSpPr/>
          <p:nvPr/>
        </p:nvSpPr>
        <p:spPr>
          <a:xfrm>
            <a:off x="0" y="287280"/>
            <a:ext cx="1198440" cy="6462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373" name="Рисунок 4" descr="Описание: Описание: Описание: F:\курсив.jpg"/>
          <p:cNvPicPr/>
          <p:nvPr/>
        </p:nvPicPr>
        <p:blipFill>
          <a:blip r:embed="rId1"/>
          <a:srcRect l="4388" t="0" r="10912" b="0"/>
          <a:stretch/>
        </p:blipFill>
        <p:spPr>
          <a:xfrm>
            <a:off x="291960" y="338040"/>
            <a:ext cx="858960" cy="5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Прямоугольник 24"/>
          <p:cNvSpPr/>
          <p:nvPr/>
        </p:nvSpPr>
        <p:spPr>
          <a:xfrm>
            <a:off x="808200" y="2214720"/>
            <a:ext cx="81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4f81bd"/>
                </a:solidFill>
                <a:latin typeface="Segoe UI"/>
                <a:ea typeface="Segoe U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4f81bd"/>
                </a:solidFill>
                <a:latin typeface="Segoe UI"/>
                <a:ea typeface="Segoe U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Segoe UI"/>
                <a:ea typeface="Segoe U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5" name="Прямоугольник 1"/>
          <p:cNvSpPr/>
          <p:nvPr/>
        </p:nvSpPr>
        <p:spPr>
          <a:xfrm>
            <a:off x="2942640" y="687240"/>
            <a:ext cx="402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Segoe UI"/>
                <a:ea typeface="Segoe UI"/>
              </a:rPr>
              <a:t>ЗАПЛАНИРОВАН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6" name="Скругленный прямоугольник 2"/>
          <p:cNvSpPr/>
          <p:nvPr/>
        </p:nvSpPr>
        <p:spPr>
          <a:xfrm>
            <a:off x="1393920" y="1716120"/>
            <a:ext cx="7134120" cy="1332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ВЕДЕНИЕ ИНСТИТУТА ДОМАШНИХ ВОСПИТАТЕЛЕЙ (СОЦИАЛЬНЫХ НЯНЬ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7" name="Скругленный прямоугольник 7"/>
          <p:cNvSpPr/>
          <p:nvPr/>
        </p:nvSpPr>
        <p:spPr>
          <a:xfrm>
            <a:off x="1389240" y="3260880"/>
            <a:ext cx="7134120" cy="1112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НЕДРЕНИЕ ЛИЦЕНЗИРОВАНИЯ ДОШКОЛЬНЫХ ОРГАНИЗАЦИ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8" name="Скругленный прямоугольник 8"/>
          <p:cNvSpPr/>
          <p:nvPr/>
        </p:nvSpPr>
        <p:spPr>
          <a:xfrm>
            <a:off x="1401840" y="4600440"/>
            <a:ext cx="7134120" cy="13273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ОРАБОТКА И ВНЕДРЕНИЕ РЕЙТИНГА ОЦЕНКИ ДОШКОЛЬНЫХ ОРГАНИЗАЦИЙ С ВКЛЮЧЕНИЕМ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 НЕГО РОДИТЕЛЬСКОЙ ОЦЕНК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9" name="Прямоугольник 11"/>
          <p:cNvSpPr/>
          <p:nvPr/>
        </p:nvSpPr>
        <p:spPr>
          <a:xfrm>
            <a:off x="0" y="287280"/>
            <a:ext cx="1198440" cy="6462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380" name="Рисунок 4" descr="Описание: Описание: Описание: F:\курсив.jpg"/>
          <p:cNvPicPr/>
          <p:nvPr/>
        </p:nvPicPr>
        <p:blipFill>
          <a:blip r:embed="rId1"/>
          <a:srcRect l="4388" t="0" r="10912" b="0"/>
          <a:stretch/>
        </p:blipFill>
        <p:spPr>
          <a:xfrm>
            <a:off x="291960" y="338040"/>
            <a:ext cx="858960" cy="5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9T08:49:26Z</dcterms:created>
  <dc:creator>Arman Kalibekuly</dc:creator>
  <dc:description/>
  <dc:language>en-US</dc:language>
  <cp:lastModifiedBy>алма</cp:lastModifiedBy>
  <cp:lastPrinted>2019-08-19T08:28:58Z</cp:lastPrinted>
  <dcterms:modified xsi:type="dcterms:W3CDTF">2020-08-13T06:15:33Z</dcterms:modified>
  <cp:revision>550</cp:revision>
  <dc:subject/>
  <dc:title>Республиканский  учебно-методический центр дополнительного образования</dc:title>
</cp:coreProperties>
</file>